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523-E73F-40AB-B9E1-73D9AB05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7553-16A2-4C7A-827E-BF502EA6D2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731-124D-4E8F-A3A2-C18EBF687E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C4D-B39E-4790-BB97-2636B84D37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The following website contains good information on obtaining domain names for your refer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hesitewizard.com/archive/registerdomain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251-38B5-420C-958F-7F34D2198C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60F-DED6-48E6-9C91-FCCC585BE2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181-184B-4A75-BB23-D96EF00FA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8AAF-A7CD-480B-981C-60C444DC05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8E3-C361-4869-A4D4-D7DBF8CA64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221B-1D03-4536-A485-C34BBF9B3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You may want to point out to students that web servers maintain a constant connection to the Internet. Pages are requested by viewers when they click on hyper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E9E9-C810-40D6-9802-96FE8BD307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Assigned domain names provided by web hosting service are difficult for users to remember if name is unrelated to site purpose and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B90-ABB7-44B4-9B9C-C2BBCA8C67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4568-E990-4B08-8693-65ECED2E21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54A-47D1-4A5D-B1A9-6F476D48F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5CD-8F7C-49FC-A381-9691C46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55E-79EF-4FC7-A202-000EB429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629-479E-4E8E-A6D5-FA96C799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E30-2151-43C0-852B-663FF821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6F70-504B-41C4-902F-6A9AD836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5BF-EBDF-467B-9D80-8B4F30E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E853-1DC3-459A-AFCA-B3496EC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C82-BDDC-4A1C-8932-3454E78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763-669A-45F7-91D3-BEC53E56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5E2B-ECCF-4BBB-B0BC-F73EF4FD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2A3-5DFF-4478-9EA3-F0F7A79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015-12F1-43BD-80CE-33E2797D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FDA2-ECE0-4357-AB64-B11485A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1A64-916A-4192-A8D0-66A62B9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CADC-B118-45DD-BC96-60298DFA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B201-9359-4581-A739-D09D8648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28600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43556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A4CD-4351-489D-B644-1683FBF1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919-CC3A-43D2-9F36-789BC77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90F-1B04-423B-BEC6-3816AEC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23F-ED92-42D7-B2B3-A79143F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1896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503-6E5F-4EEB-A804-386B6B0F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386-CA36-47CF-A643-FAF3C32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43556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CDC-CE73-413F-8C45-D350DF5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28600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43556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D1B-C9C6-43B1-B5DF-D20B556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23F-AF34-45E7-906F-182162B76DA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2860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237F-3EB9-4D94-9ED3-301463F04295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cann.org/tr/english.html" TargetMode="External"/><Relationship Id="rId2" Type="http://schemas.openxmlformats.org/officeDocument/2006/relationships/hyperlink" Target="http://www.internic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000" y="225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3.02H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ublishing a Websi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89120" y="4843440"/>
            <a:ext cx="768816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3.02 Develop webpag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95080" y="917280"/>
            <a:ext cx="7118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Comparing Web Hosts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02840" y="1992240"/>
            <a:ext cx="66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Does the host allow a maximum number of “hits” per billing cycl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is the fee for exceeding the traffic allowance if the site becomes popular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File transfer technology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(ftp, webDAV, editor compatibility)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hosts do not support some web editors and may require the use of their ftp program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1480" y="990720"/>
            <a:ext cx="68022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btain a Domain Nam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93560" y="1914120"/>
            <a:ext cx="666756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Domain names can be registered for a fixed period of time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usually 1 year but no more than 10 years)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CANN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(Internet Corporation for Assigned Names and Numbers) maintains a list of accredited registrar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strars are the only companies allowed to assign domain name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stration cost vary but are generally between $10 and $35 although some web hosts will register the domain for fre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CANN manages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InterNIC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, a searchable list of URL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Has a WhoIs feature that provides information regarding the registered owner and the registrar that assigned the domain nam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6200" y="1092240"/>
            <a:ext cx="30132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ublish!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4120" y="1861920"/>
            <a:ext cx="7358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Upload files to a web host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Know protocol being used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lvl="1" marL="628560" indent="-28296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TP—File Transfer Protocol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67680" indent="-226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Non-secure transfer that doesn’t encrypt access password or allow data encryption during transfer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628560" indent="-28296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WebDAV-Web Distributed Authoring and Versioning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967680" indent="-22608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ecure file transfer that uses Web Folders to encrypt password and data during transfer; useful when using multiple authors to create sit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Does the host require an external uploading application? 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232560" indent="-23256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2965320"/>
                <a:tab algn="l" pos="6006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Does the host accept internal uploading utilities from web editing programs like Microsoft Expression Web or Dreamweaver?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36480" y="1012320"/>
            <a:ext cx="258444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ublish!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45680" y="1966680"/>
            <a:ext cx="664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Tahoma"/>
              </a:rPr>
              <a:t>Site too large?</a:t>
            </a:r>
            <a:endParaRPr b="0" lang="en-US" sz="26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duce number and/or size of multimedia fil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duce number and/or size of image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dit pages and remove links to files that no longer exist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move unnecessary files from host server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1260360"/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Pay for additional storage spac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94000" y="837720"/>
            <a:ext cx="68119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85800" y="1784520"/>
            <a:ext cx="705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heck spelling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Spelling errors can turn visitors away from site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Use web editor’s spell checking utility or copy text to a word processor to check for spelling errors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heck relative and absolute links to make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re they work properly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Common link errors: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Forward slash in relative link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http:// before a relative link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Mistyping a web address using wrong case or mistaking a _ for a blank spac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1520" y="923400"/>
            <a:ext cx="67975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58640" y="2297160"/>
            <a:ext cx="73292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Check site in multiple browser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heck site in Internet Explorer, Opera, Firefox, etc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Notice differences and adjust as necessary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9760" y="863280"/>
            <a:ext cx="76755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efore Publishing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8640" y="1976400"/>
            <a:ext cx="73515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alidate source cod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Validating checks for errors in HTML code such as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Tags spelled incorrectly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Tags left open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Validating does not find spelling errors in tex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ome validators correct errors while others just highlight the erro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ny web editors contain internal validating utilitie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r sites created in a text editor, validating is available online and via free downloads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xample: 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validator.w3.org/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3600" y="820440"/>
            <a:ext cx="677232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hoose a Web Hos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5040" y="196524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A web host is also called a web serve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A computer that stores web page files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Sends webpages to viewers over the Internet upon request. 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Types: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Fre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Shared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Dedicated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ISP is most common web hos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Usually package Internet access, email, and limited web site storage for its customers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561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an be a solution for personal or small business use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1424160" y="1846440"/>
            <a:ext cx="6949800" cy="4813200"/>
          </a:xfrm>
          <a:prstGeom prst="rect">
            <a:avLst/>
          </a:prstGeom>
          <a:solidFill>
            <a:srgbClr val="00cc99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02880" y="782640"/>
            <a:ext cx="52578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Free Web Host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04040" y="638280"/>
            <a:ext cx="237168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family, hobby or personal sites with low traffic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  <a:p>
            <a:pPr marL="66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531440" y="1954080"/>
            <a:ext cx="6751800" cy="4548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o cos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y include free email account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May include online web editor with GUI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0" algn="ctr"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No personalized domain names; usually combines the free site’s URL with the path to specific sit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imited storage spac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imited technical support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pop-up advertising in exchange for hosting site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407960" y="1762200"/>
            <a:ext cx="6953400" cy="4770360"/>
          </a:xfrm>
          <a:prstGeom prst="rect">
            <a:avLst/>
          </a:prstGeom>
          <a:solidFill>
            <a:srgbClr val="00cc99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88960" y="868320"/>
            <a:ext cx="64468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hared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87920" y="620640"/>
            <a:ext cx="226044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small businesses websites with average traffic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617480" y="1822320"/>
            <a:ext cx="66531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Low cost because it is shared with others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Own domain name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Better technical support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Restrictions on traffic volume (more traffic costs more money!)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Tahoma"/>
              </a:rPr>
              <a:t>Offers many options such as email, database support and multiple web editor compatibility.</a:t>
            </a:r>
            <a:endParaRPr b="0" lang="en-US" sz="2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433520" y="1895400"/>
            <a:ext cx="6918480" cy="4516560"/>
          </a:xfrm>
          <a:prstGeom prst="rect">
            <a:avLst/>
          </a:prstGeom>
          <a:solidFill>
            <a:srgbClr val="00cc99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360" y="939600"/>
            <a:ext cx="508464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edicated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66040" y="495360"/>
            <a:ext cx="235080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6699"/>
                </a:solidFill>
                <a:latin typeface="Tahoma"/>
              </a:rPr>
              <a:t>Good for large businesses with high traffic and multiple domain names.</a:t>
            </a: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503360" y="2054160"/>
            <a:ext cx="683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ebsite is hosted on its own server—not shared with other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Very powerful—can accommodate any kind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f software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Very expensiv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quires high-level computer skills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5560" y="726840"/>
            <a:ext cx="536256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mparing Web Hos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43080" y="1760040"/>
            <a:ext cx="7493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can the customer afford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orag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ow much storage space can the customer afford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hat size is the sit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336699"/>
              </a:buClr>
              <a:buSzPct val="7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heck the cumulative size of the root folder if no web editor.</a:t>
            </a:r>
            <a:endParaRPr b="0" lang="en-US" sz="2000" spc="-1" strike="noStrike">
              <a:solidFill>
                <a:srgbClr val="336699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re backup servers in place to host site when main server is offline?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01:29:09Z</dcterms:created>
  <dc:creator>Lee O'Neal</dc:creator>
  <dc:description/>
  <dc:language>en-US</dc:language>
  <cp:lastModifiedBy>ycsadmin</cp:lastModifiedBy>
  <dcterms:modified xsi:type="dcterms:W3CDTF">2011-06-25T00:26:25Z</dcterms:modified>
  <cp:revision>62</cp:revision>
  <dc:subject/>
  <dc:title>Web Site Development  Competency 8 Create a multimedia web site.</dc:title>
</cp:coreProperties>
</file>